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10763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5920"/>
            <a:ext cx="53816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2891-201D-492B-9563-5BF91BAC8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9A3E-F6A9-42AF-8805-5DA419E94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5CF8-1688-4387-ABC9-B399539C0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43D3-AAF3-4636-912B-527B003EB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A5BD-A267-4CE7-BC45-D1AF16B2D1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E9F-1E34-4E49-AC6F-281FEB48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8EB-3A3D-459E-82AC-E65C333C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E4C-C935-4551-8F60-F7E66AF4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08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80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08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80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0C8-9BB9-4F09-95CD-0C2792B2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06D-F9E0-4A91-BDC2-37D85E0F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97D-052F-446A-890D-03F11FFB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D61-ED4A-4B67-9ECB-13843C98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416-1732-4258-98C1-F4584B09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8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4FA-709C-4D6E-937E-580213FE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D9B-79E6-445D-9CF8-5E50413E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F1E-5F56-4B43-8710-532AFC05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598-9988-464F-AE0E-EAA951C1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00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616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064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27EF-C9AB-49AD-A0C1-2E0695404F4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5240" y="152280"/>
            <a:ext cx="97437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д социального страхования Российской Федерации: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www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fz122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go"/>
          <p:cNvPicPr/>
          <p:nvPr/>
        </p:nvPicPr>
        <p:blipFill>
          <a:blip r:embed="rId1"/>
          <a:stretch/>
        </p:blipFill>
        <p:spPr>
          <a:xfrm>
            <a:off x="0" y="228600"/>
            <a:ext cx="3056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9909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всем местам работы (вар.№1) либо по одному из последних мест работы (вар.№2),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как у этих же работодателей, так и у других (другого)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Лилия и ООО Астр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    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Астра                     150000 руб. 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везда                                            3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счет пособия каждым страхова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и ООО Ас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!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работок полученный в Фирме Звезда, не учитывается (ч.1 ст.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Расчет пособия по одному из последних мест работы, например ООО Лил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Заработок по годам составит: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09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– 350000 (ООО Лилия)+300000 (фирма Звезда)+200000 (ООО Астра)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50000 руб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(за 2009г.– заработок ограничиваем суммой в 415000 руб.)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10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250000+150000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р/дн. заработок равен  (415000+400000):730=1116,44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умма пособия составит 1116,44х12=13397,28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пределение среднего заработка для расчета пособий по временной нетрудоспособности, по беременности и родам, ежемесячного пособия по уходу за ребенком (ч.2 ст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2880" y="3804120"/>
            <a:ext cx="9155160" cy="1306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 заработок включаются все виды выплат и иных вознаграждений в пользу работника, на которые начислены страховые взн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382680" y="1600200"/>
            <a:ext cx="921996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Заработок за два календарных года, предшествующих году наступления страхового случая, в том числе за время работы у другого работод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382680" y="5791320"/>
            <a:ext cx="92962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редний дневной заработок определяется путем деления суммы начисленного заработка на 7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 rot="5400000">
            <a:off x="4573080" y="30477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 rot="5400000">
            <a:off x="4573080" y="51051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обенности определения среднего заработка для исчисления пособий за период до 1 января 2010г. , а для лиц, работающих по трудовым договорам в организациях и у индивидуальных предпринимателей, применяющих специальные налоговые режимы - за период до 1 января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3920" y="2092680"/>
            <a:ext cx="9073080" cy="2062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редний заработок включаются все виды выплат и иных вознаграждений в пользу работника, на которые начисляются страховые взносы в ФСС и которые не превышают предельную величину базы для начисления страховых взносов в Фонд, установленную в 201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82680" y="4952880"/>
            <a:ext cx="929628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, не превышающей предельную величину базы для начисления страховых взносов в Фонд, установленную в 2010 г. (415000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5400000">
            <a:off x="4649040" y="12952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 rot="5400000">
            <a:off x="4573080" y="42670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50560"/>
            <a:ext cx="8918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9680" y="837720"/>
            <a:ext cx="9448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Пособия исчисляются из МРОТ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в случаях ес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ух календарных годах, предшествующих году наступления страхового случая, отсутствует заработная пл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месячный заработок составляет ниже М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РОТ применяется без учета районного коэффициента (ч.1.1 ст.14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тем аналогич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 закрепле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11(1) Положения, утв.Постановлением Правительства РФ №375 (в ред.Постановления Правительства от 01.03.2011 №12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в районах и местностях, в которых в установленном порядке применяется районный коэффициент к заработной плате, исчисленный застрахованному лицу исходя из МРО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мер соответствующего пособия определяется с учетом этих коэффици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.При неполном рабочем времен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средний заработок в указанных выше случа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ется пропорционально продолжительности рабоч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и работе на 0,5 ставки пособие надо исчислять из 2165 руб. (50%МРОТ) (ч.1.1 ст.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58640" y="0"/>
            <a:ext cx="8991720" cy="83808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Особенности исчисления и выплаты пособ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448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Расчет пособия по временной нетрудоспособности (если работник не имел заработка, либо месячный заработок ниже МРОТ, не представил справок о своем заработке с прошлого места работы), т.е расчет пособия исходя из М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909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рудник ООО «Смена» принес листок нетрудоспособности с 14 по 18 марта 2011г. (5 кал. дней). Страховой стаж – 4г. 4 м.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ОО «Смена» работник трудится с 1 сентября 2010г. В 2009г. сотрудник не работал, в 2010г. с 8 февраля по 15 июня – работал в другой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лад сотрудника в ООО «Смена» равен 20000руб. Расчетный период 2009-2010гг. Заработок в ООО «Смена» составил 80000руб. (20000х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боток с предыдущего места работы сотрудник подтвердить не смог, поэтому расчет пособия произведен только из заработка ООО «Сме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0000руб. меньше 415000руб. и меньше 103920руб. (4330 (МРОТ)х2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450360" y="-18252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4080" y="152280"/>
            <a:ext cx="96012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обие нужно исчислять из минимума. Сумма пособия будет рав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3920 руб./730 дн.=142,36 руб. - мин.размер дневного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2,36 руб. х 60%=85,42 руб. - среднедневное пособие в зависимости от страхового ст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5,42 руб. х 5 дн. =427,10 руб.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ер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работода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3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56,26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Ф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2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70,84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данной местности установлены районные коэффициенты, то при исчислении пособий в соответствии с ч.1.1 ст.14 Закона №255-ФЗ и с п.11.1 Положения №375 (в ред.Постановления Правительства от 01.03.2011 №120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йонный коэффициент применяется уже к исчисленному размеру пос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мена одного (двух) календарных год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оторых отсутствует заработок для исчисления пособий (ч.1 ст.14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чины отсутствия зараб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320" y="2174400"/>
            <a:ext cx="4149360" cy="756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259240" y="2133720"/>
            <a:ext cx="441972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уходу за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06360" y="3048120"/>
            <a:ext cx="9448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словия замены календарных г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58640" y="4114800"/>
            <a:ext cx="438336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осуществляется по заявлению застрахованн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5030640" y="4114800"/>
            <a:ext cx="464832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календарных годов приведет к увеличению размера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30040" y="5410080"/>
            <a:ext cx="9448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.  Перерасчет пособия за прошлое время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 не более чем за три год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шествующих дню представления справок (справки) о сумме заработка (ч.2.1 ст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flipH="1" rot="2003400">
            <a:off x="2734920" y="3436560"/>
            <a:ext cx="98280" cy="635040"/>
          </a:xfrm>
          <a:prstGeom prst="downArrow">
            <a:avLst>
              <a:gd name="adj1" fmla="val 50000"/>
              <a:gd name="adj2" fmla="val 16153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 flipH="1" rot="2003400">
            <a:off x="3942360" y="1212840"/>
            <a:ext cx="74520" cy="990720"/>
          </a:xfrm>
          <a:prstGeom prst="downArrow">
            <a:avLst>
              <a:gd name="adj1" fmla="val 50000"/>
              <a:gd name="adj2" fmla="val 332367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 flipH="1" rot="19597200">
            <a:off x="7303680" y="3389040"/>
            <a:ext cx="76320" cy="790200"/>
          </a:xfrm>
          <a:prstGeom prst="downArrow">
            <a:avLst>
              <a:gd name="adj1" fmla="val 50000"/>
              <a:gd name="adj2" fmla="val 258844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 rot="19596600">
            <a:off x="5909760" y="1206000"/>
            <a:ext cx="76320" cy="990720"/>
          </a:xfrm>
          <a:prstGeom prst="downArrow">
            <a:avLst>
              <a:gd name="adj1" fmla="val 50000"/>
              <a:gd name="adj2" fmla="val 32452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8993160" y="0"/>
            <a:ext cx="91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960" y="228600"/>
            <a:ext cx="8918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собенности исчисления и выплаты ежемесячного пособия по уходу за ребенком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268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месячное пособие по уходу за ребенком выплачи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лько по одному месту рабо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 выбору застрахованного лица) – ч.2,2.1 ст.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рядок учета зарабо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меняется порядок учета заработка, предусмотренный ч.2 и ч.2.1 ст. 13 Закона, т.е. пособие выплачивается по одному месту работы по выбору застрахованного лиц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учетом заработка у других работод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 расчете пособия –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ся справка (справки) о заработке, из которого исчисляется пособие, от другого (других) работод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Примеры расчета пособия по уходу за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320" y="838080"/>
            <a:ext cx="9296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ница оформила отпуск по уходу за ребенком с 1 марта 2011 года, работая в фирме Сокол с 11 января 201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счетном периоде она работала в организациях А и Б и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. в организации А – 1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0 г. В организации Б – 23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е исчисляется фирмой Сокол из заработка за расчетный период, полученного в организациях А и Б: 150000+23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 основании представленных справок о заработной плате, на которую начислены страховые взносы в ФСС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равен  520,55 руб. (150000+230000):7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равен 15824,72 руб. (520,55х30,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составит 6329,89 руб. (15824,72х4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Внимание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аработок, полученный в 2011 г. В фирме Сокол в расчете пособия не уча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9680" y="0"/>
            <a:ext cx="9525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ница ушла в отпуск по уходу за ребенком с 15 января 2011г. На момент ухода в отпуск она работает в ООО Ромашка и ООО Гвоздика и в течение двух предшествующих календарных лет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оду        в 2010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Ромашка                350000 руб.        2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Гвоздика                200000 руб.        150000 руб. – не учиты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Звезда                    10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Расчет пособия делаем по одному месту работы (по выбору) (ч.2 ст.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пособие выплачивает ООО Ромашка, заработок у ООО Гвоздика не учитыв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ем заработок у другого работодателя в ООО Звезда (ч.1 ст.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работок состав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09г. – 4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50000руб. (ООО Ромашка)+100000руб. (ООО Звез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10г. – 2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ОО Ромаш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щий заработок для исчисления пособия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15000руб. (из 450000)+250000руб.=665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– 665000/730=910,96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– 910,96х30,4=27693,18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– 27693,18х40%=11077,27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30040" y="3505320"/>
            <a:ext cx="952524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О применении законодательных и нормативных правовых актов с 1 января 2011 года по обязательному социальному страхованию на случай временной нетрудоспособности и в связи с материн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909000" cy="134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909000" cy="32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6"/>
          <p:cNvGraphicFramePr/>
          <p:nvPr/>
        </p:nvGraphicFramePr>
        <p:xfrm>
          <a:off x="154080" y="0"/>
          <a:ext cx="2455920" cy="184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080" y="0"/>
                    <a:ext cx="245592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8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3"/>
          <p:cNvSpPr/>
          <p:nvPr/>
        </p:nvSpPr>
        <p:spPr>
          <a:xfrm>
            <a:off x="428760" y="206064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ериодичность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ботодателей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квартальн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трахователей, не осуществляющих выплаты физическим лица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годно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584280" y="4078440"/>
            <a:ext cx="4137120" cy="23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 месту нахождения органа контроля за уплатой страховых взносов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на основе расчетов по начисленным и уплаченным страховым взносам и документов, подтверждающих обоснованность расходов на выплату социального страхов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5265720" y="4005360"/>
            <a:ext cx="413532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уполномоченными должностными лицам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 в соответствии с их служебными обязанностями </a:t>
            </a: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без какого-либо специального решения руководителя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3551400" y="220356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роверяемый  период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рошедший отчет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6672240" y="2060640"/>
            <a:ext cx="2728800" cy="180000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Срок провед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– в период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3-х месяцев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 дня представления плательщиком страховых взносов рас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 flipH="1" rot="2003400">
            <a:off x="3706200" y="186480"/>
            <a:ext cx="114480" cy="4181400"/>
          </a:xfrm>
          <a:prstGeom prst="downArrow">
            <a:avLst>
              <a:gd name="adj1" fmla="val 50000"/>
              <a:gd name="adj2" fmla="val 913129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 flipH="1" rot="19597200">
            <a:off x="6039720" y="241200"/>
            <a:ext cx="85680" cy="4067280"/>
          </a:xfrm>
          <a:prstGeom prst="downArrow">
            <a:avLst>
              <a:gd name="adj1" fmla="val 50000"/>
              <a:gd name="adj2" fmla="val 1186765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 flipH="1" rot="3249600">
            <a:off x="3699360" y="-120240"/>
            <a:ext cx="69840" cy="2992680"/>
          </a:xfrm>
          <a:prstGeom prst="downArrow">
            <a:avLst>
              <a:gd name="adj1" fmla="val 50000"/>
              <a:gd name="adj2" fmla="val 1071263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 rot="18350400">
            <a:off x="6073920" y="-117720"/>
            <a:ext cx="87480" cy="2982960"/>
          </a:xfrm>
          <a:prstGeom prst="downArrow">
            <a:avLst>
              <a:gd name="adj1" fmla="val 50000"/>
              <a:gd name="adj2" fmla="val 852469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 flipH="1" rot="1200">
            <a:off x="4876560" y="612720"/>
            <a:ext cx="81000" cy="1592280"/>
          </a:xfrm>
          <a:prstGeom prst="downArrow">
            <a:avLst>
              <a:gd name="adj1" fmla="val 50000"/>
              <a:gd name="adj2" fmla="val 491444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584280" y="907920"/>
            <a:ext cx="866304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Цель камеральной проверк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– контроль за соблюдением страхователем законодательства Российской Федерации об обязательном социальном страховании в части правильности исчисления, полноты и своевременности уплаты (перечисления) страховых взносов в бюджет Фонда, а также расходования средств Фон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940200" y="620640"/>
            <a:ext cx="1952640" cy="287280"/>
          </a:xfrm>
          <a:prstGeom prst="downArrow">
            <a:avLst>
              <a:gd name="adj1" fmla="val 47111"/>
              <a:gd name="adj2" fmla="val 75139"/>
            </a:avLst>
          </a:prstGeom>
          <a:noFill/>
          <a:ln w="28440">
            <a:solidFill>
              <a:srgbClr val="569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584280" y="189000"/>
            <a:ext cx="8740800" cy="43164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амеральная проверка (статья 34 ФЗ №212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9374040" y="0"/>
            <a:ext cx="534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2520" y="0"/>
            <a:ext cx="943452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Размеры пособий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длежащие индексации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согласно ст. 4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Федерального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закона от 19.05.1995 №81-ФЗ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907920"/>
          <a:ext cx="9505800" cy="5761080"/>
        </p:xfrm>
        <a:graphic>
          <a:graphicData uri="http://schemas.openxmlformats.org/drawingml/2006/table">
            <a:tbl>
              <a:tblPr/>
              <a:tblGrid>
                <a:gridCol w="2448000"/>
                <a:gridCol w="1592280"/>
                <a:gridCol w="183024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лачивае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оленным в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ликвид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 меся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авшим на у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медицинск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х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нние 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01600" y="463680"/>
          <a:ext cx="9505800" cy="6065640"/>
        </p:xfrm>
        <a:graphic>
          <a:graphicData uri="http://schemas.openxmlformats.org/drawingml/2006/table">
            <a:tbl>
              <a:tblPr/>
              <a:tblGrid>
                <a:gridCol w="2303640"/>
                <a:gridCol w="172692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р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жден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1 703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458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жемеся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ходу 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ом (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стижения 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а 1,5лет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первым ребен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вторым и последую-щими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194,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88,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523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 046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С 01.01.2010 предельный размер пособ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833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4080" y="609480"/>
          <a:ext cx="9505800" cy="2592360"/>
        </p:xfrm>
        <a:graphic>
          <a:graphicData uri="http://schemas.openxmlformats.org/drawingml/2006/table">
            <a:tbl>
              <a:tblPr/>
              <a:tblGrid>
                <a:gridCol w="2303280"/>
                <a:gridCol w="172728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реб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 2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89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90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татья 4.6. Порядок финансового обеспечения расходов страхователей на выплату страхового обеспечения за счет средств бюджета Фонда социального страхования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(Федеральный закон от 29.12.2006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84280" y="3500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84280" y="34909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07960" y="429264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51000" y="3573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887640" y="259092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54080" y="205740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рриториальный орган страховщика выделяет страхователю необходимые средства на выплату страхового обесп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878360" y="1981080"/>
            <a:ext cx="503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В течение 10 календарных дней с даты представления страхователем всех необходимых документов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(без проведения проверки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3 ст.4.6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По результатам проведенной проверки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</a:t>
            </a: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праве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провести проверку выездную или камеральную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в период 3 месяцев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с учетом ст. 34, 35 Федерального закона от 24.07.2009 №21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4 ст.4.6, ст. 4.7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802040" y="2057400"/>
            <a:ext cx="0" cy="175248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4802040" y="4191120"/>
            <a:ext cx="0" cy="251460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3887640" y="47242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8993160" y="0"/>
            <a:ext cx="91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8840880" y="33480"/>
            <a:ext cx="106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45960" y="2781360"/>
            <a:ext cx="928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   </a:t>
            </a:r>
            <a:r>
              <a:rPr b="1" lang="ru-RU" sz="60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</a:t>
            </a:r>
            <a:r>
              <a:rPr b="1" lang="ru-RU" sz="60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С</a:t>
            </a:r>
            <a:r>
              <a:rPr b="1" lang="ru-RU" sz="44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9909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4.07.2009 №212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О страховых взносах в Пенсионный фонд Российской Федерации, Фонд социального страхования Российской Федерации, Федеральный фонд обязательного медицинского страхования и территориальные фонды обязательного медицинского страхования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9.12.2006 №255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обязательном социальном страховании на случай временной нетрудоспособности и в связи с материнством» (в ред. Федеральных законов от 08.12.2010 №343-ФЗ, от 25.02.2011 №21-ФЗ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 об особенностях порядка исчисления пособий по временной нетрудоспособности, по беременности и родам, ежемесячного пособия по уходу за ребенком гражданам, подлежащим обязательному социальному страхованию на случай временной нетрудоспособности и в связи с материнством, утвержденно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Ф от 15.06.2007 №37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ред. Постановления Правительства от 01.03.2011 №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17.01.2011 №4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выдачи справки о сумме заработной платы, иных выплат и вознаграждений, на которую были начислены страховые взносы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0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направления запроса страхователя в территориальный орган страховщика для осуществления проверки сведений о страхователе (страхователях), выдавшем (выдавших) застрахованному лицу справку (справки) о сумме заработной платы, иных выплат и вознаграждений для исчисления пособий…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1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заявления застрахованного лица о направлении запроса в территориальный орган Пенсионного фонда РФ о представлении сведений о заработной плате, иных выплатах и вознаграждениях, формы и порядка направления запроса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755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а (разъяснения) Минздравсоцразвития РФ по порядку исчисления и уплаты страховых взносов, в том числе и по применению ФЗ №212-ФЗ, №255-Ф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3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080" y="914400"/>
          <a:ext cx="9601200" cy="6093000"/>
        </p:xfrm>
        <a:graphic>
          <a:graphicData uri="http://schemas.openxmlformats.org/drawingml/2006/table">
            <a:tbl>
              <a:tblPr/>
              <a:tblGrid>
                <a:gridCol w="5105160"/>
                <a:gridCol w="449604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1.2010 №20-1/2534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0.04.2010 №9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02.2010 №28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5.2010 №1212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2.2010 №40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9.05.2010 №12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1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5.2010 №134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5.2010 №135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3.2010 №47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8.2010 №251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10.03.2010 №10-4/30810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6.08.2010 №2538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6.03.2010 №58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3.03.2010 №647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3.08.2010 №264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11.2010 №341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4.2010 №5905-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7.04.2010 №820-19обз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5.03.2011 №78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51"/>
          <p:cNvSpPr/>
          <p:nvPr/>
        </p:nvSpPr>
        <p:spPr>
          <a:xfrm>
            <a:off x="3532320" y="3273480"/>
            <a:ext cx="260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5"/>
          <p:cNvSpPr/>
          <p:nvPr/>
        </p:nvSpPr>
        <p:spPr>
          <a:xfrm flipH="1">
            <a:off x="9528120" y="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рифы страховых взносов в Фонд социального страхования 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йской Федерации на переходный период 2011-201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762120"/>
          <a:ext cx="9909000" cy="6095880"/>
        </p:xfrm>
        <a:graphic>
          <a:graphicData uri="http://schemas.openxmlformats.org/drawingml/2006/table">
            <a:tbl>
              <a:tblPr/>
              <a:tblGrid>
                <a:gridCol w="6064200"/>
                <a:gridCol w="854280"/>
                <a:gridCol w="941400"/>
                <a:gridCol w="939600"/>
                <a:gridCol w="110952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Категории страхо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</a:tr>
              <a:tr h="18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сновная категория страхователей, в т.ч. применяющих спецналогрежимы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 организациях инвалидов, занимающихся производством и (или) реализацией подакцизных и иных товаров в соответствии с перечнем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сельхозтоваропроизводителей, организаций нар. худ. промыслов, общин народов Севера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 ИП, имеющих статус резидента технико-внедренческой особой экономической зон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нвалидов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тношении выплат инвалидам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 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ли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организаций и ИП, применяющих единый сельскохозяйственный налог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Text Box 39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6000" y="0"/>
            <a:ext cx="9372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словия назначения, исчисления и выплаты пособий по временной нетрудоспособности ,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3720" y="10663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овавшие в 2010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2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пособия осуществля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последние 12 календар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яцев, предшествующих месяц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1680" y="114264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ующие в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3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либ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либо только по одному месту работы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страхованного лица с учетом заработка у других работода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среднего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два календарных год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шествующих год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на 7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9069480" y="1440"/>
            <a:ext cx="83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525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й с 1 января 2011г. (части 2,2.1 и 2.2 статьи 1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0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 назначаются и выплачиваются по каждому месту работы (службы, иной деятельности), если (ч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, по уходу за ребенком назначаются и выплачиваются по одному месту работы (службы, иной деятельности), если (ч.2.1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порядку вариант №1, либо вариант №2, если (ч.2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6080" y="990360"/>
            <a:ext cx="5029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у которых было занято и в двух предшествующих календарных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х предшествующих календарных годах было занято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двух предшествующих календарных годах было занято как у этих же, так и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344840" y="8380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344840" y="26668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4268880" y="4724280"/>
            <a:ext cx="761760" cy="685800"/>
          </a:xfrm>
          <a:custGeom>
            <a:avLst/>
            <a:gdLst>
              <a:gd name="textAreaLeft" fmla="*/ 95040 w 761760"/>
              <a:gd name="textAreaRight" fmla="*/ 666720 w 7617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9909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каждому месту работы (службы, иной деятельности)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у тех же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Гвоздика                150000 руб.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ООО Ромашка – ср/дн. заработок равен  (250000+350000):730=821,92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821,92х12=9863,01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ООО Гвоздика – ср/дн. заработок равен  (150000+200000):730=479,45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479,45х12=5753,4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 не превышающей предельную величину базы для начисления страховых взносов в ФСС на соответствующий календарный год каждым страхователем (на 2009-2010 - 415000 руб. на каждый указанный календарный год (ч.3.1 ст.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840880" y="0"/>
            <a:ext cx="914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1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080" y="761760"/>
            <a:ext cx="9601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, ежемесячное пособие по уходу за ребенком  назначаются и выплачиваются страхователем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одному из последних мест рабо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лужбы, иной деятельности)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выбору застрахованного лица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в двух предшествующих календарных годах было занято у других работодателей (работодате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Сидорова В.И. временная нетрудоспособность наступила с 01.02.2011.-28.02.2011,.страховой стаж 7 лет, 3 мес. (80%). На момент наступления заболевания он работал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10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09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350000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Пламя                    1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аря                                                 2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обие назначает и выплачивает ООО Ромашка (по выбору работн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2009г.  - 250000руб. , за 2010г. – 415000 руб. (350000+150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/дн. заработок равен  (415000+250000):730=910,96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невное пособие ( с учетом стажа) – 910,96х80%=728,77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728,77х28=20405,56 руб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боток, полученный в ООО Гвоздика и ООО Ромашка в 2011 году в расчете данного пособия не участву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0T05:30:49Z</dcterms:modified>
  <cp:revision>3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